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A1C-63B0-427C-A54E-8382C43F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D86-647B-4878-A81D-D193568A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827-19F2-4101-B004-1AD1FD8B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8BD-F7EE-4909-BA22-35E069EB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B05-B83E-4811-A11B-1119AA91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7ED-1BC5-4C99-A33B-E4CD5340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661-E035-4CB7-972C-2B245CFE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559-A705-4FDD-8514-E895C543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99A-A71B-4418-AF7D-AB567B21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C33-70C5-4AEA-9C32-A2557F2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7AD-9CFB-4FC3-8EF3-4584D980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F76-FD69-4817-B2D9-021138C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AEDC-7B66-459D-907F-26464B3374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sty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vak.jpg"/>
          <p:cNvPicPr/>
          <p:nvPr/>
        </p:nvPicPr>
        <p:blipFill>
          <a:blip r:embed="rId1"/>
          <a:stretch/>
        </p:blipFill>
        <p:spPr>
          <a:xfrm>
            <a:off x="1676520" y="34920"/>
            <a:ext cx="586728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Visual Lear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% of people are visual lea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from diagrams, maps, vid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good sense of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ists to organize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 to be unaware of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well developed imag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distracted by movement or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LS1.wmv" descr=""/>
          <p:cNvPicPr/>
          <p:nvPr/>
        </p:nvPicPr>
        <p:blipFill>
          <a:blip r:embed="rId1"/>
          <a:stretch/>
        </p:blipFill>
        <p:spPr>
          <a:xfrm>
            <a:off x="603360" y="1517760"/>
            <a:ext cx="71816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ctile/Kinesthetic Lear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high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best when actively inv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 to DO as opposed to 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e much of what is said in a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at sports and 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best with hands-on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hard time sitting and lis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LS2.wmv" descr=""/>
          <p:cNvPicPr/>
          <p:nvPr/>
        </p:nvPicPr>
        <p:blipFill>
          <a:blip r:embed="rId1"/>
          <a:stretch/>
        </p:blipFill>
        <p:spPr>
          <a:xfrm>
            <a:off x="438120" y="1590840"/>
            <a:ext cx="71946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uditory Learne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by listening and talking a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 verbal instructions and l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and remember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good with words an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read to yourself while you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 acting or being on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not afraid to speak in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LS3.wmv" descr=""/>
          <p:cNvPicPr/>
          <p:nvPr/>
        </p:nvPicPr>
        <p:blipFill>
          <a:blip r:embed="rId1"/>
          <a:stretch/>
        </p:blipFill>
        <p:spPr>
          <a:xfrm>
            <a:off x="676440" y="1590840"/>
            <a:ext cx="7345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you will complete a survey to find out if your answers to the questions confirm your learning style beli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Blinking-Eyes.gif"/>
          <p:cNvPicPr/>
          <p:nvPr/>
        </p:nvPicPr>
        <p:blipFill>
          <a:blip r:embed="rId1"/>
          <a:stretch/>
        </p:blipFill>
        <p:spPr>
          <a:xfrm>
            <a:off x="603360" y="3578400"/>
            <a:ext cx="2377800" cy="2371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move.jpg"/>
          <p:cNvPicPr/>
          <p:nvPr/>
        </p:nvPicPr>
        <p:blipFill>
          <a:blip r:embed="rId2"/>
          <a:stretch/>
        </p:blipFill>
        <p:spPr>
          <a:xfrm>
            <a:off x="3581280" y="388620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auditory.jpg"/>
          <p:cNvPicPr/>
          <p:nvPr/>
        </p:nvPicPr>
        <p:blipFill>
          <a:blip r:embed="rId3"/>
          <a:stretch/>
        </p:blipFill>
        <p:spPr>
          <a:xfrm>
            <a:off x="6248520" y="3657600"/>
            <a:ext cx="17492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0:26Z</dcterms:created>
  <dc:creator>San Ramon Valley High School</dc:creator>
  <dc:description/>
  <dc:language>en-US</dc:language>
  <cp:lastModifiedBy>csekera</cp:lastModifiedBy>
  <dcterms:modified xsi:type="dcterms:W3CDTF">2012-02-28T21:52:23Z</dcterms:modified>
  <cp:revision>22</cp:revision>
  <dc:subject/>
  <dc:title>Learning Styles</dc:title>
</cp:coreProperties>
</file>